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3B6-E9EE-4A2F-93C8-844FE4DA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DE5B-E20B-4F1B-B3E0-BDC8847F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0D2-DE55-43AF-BE8C-340D2D37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CC3-380A-49E0-AE12-D3512F7D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0B8B-0DFD-42EF-B05D-7F0ACEED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4897-E704-406C-8DAA-E48F6286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10AC-0644-4483-8C73-148178EE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D84F-C72D-4594-BC6E-B9258B93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45FE-1DE3-496E-8F1A-391BD9B4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0F20-6C7B-41A4-8259-867B89D4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C9A6-ACEC-4B74-BF9B-F344DF56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09F-5887-4B9C-B913-7C0725A3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0A8E-517E-4A17-9749-2B5CFDFC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117B-D3F9-4EA1-9057-769F2883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6A9A-E2E8-4AE6-A4DF-6020A401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3C65-8BED-4DB8-897E-0C049E39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F49E-BFFA-4ACA-BB75-253AEAAD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2BF-57A2-403E-9EBF-7F68D8DD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93E-8E7B-43F9-8CC8-28296921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D7C-3974-4A6E-BC2E-DD620424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970-E202-463F-8A2F-B327AFC5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C317-C1B0-4CC7-B041-91EE61FB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0FBE-5638-469C-AD36-B11539F1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5EDE-2671-4003-9987-007840DF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dee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0dee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0dee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0dee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6FF1-A93C-4E31-9390-84692C9AF3AF}" type="datetime"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B100-63B4-406C-B045-53E38B6ACA4D}" type="slidenum"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hatch_title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99840" y="10663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0deed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9B7C-3F66-4C0B-958D-5A6D2235EB5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32C4-22AC-496C-8A17-C79553ACD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0dee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dee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0dee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0dee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BANKERS ASSOCIATION OF TURKEY -  MONEY LAUNDERING CONFERENCE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3962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Current International Developments in Combating Money Laundering &amp; Suspicious Transaction Reporting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John Carlson, FATF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Istanbul, 24 May 2002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3. Non-financial businesses and profess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ly the 40 Recommendations to -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Casinos and other gambling business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Dealers in real estate and high value item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Company and trust service provide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Lawye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Notari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Accounting Professional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vestment adviso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Suspicious Transaction Reporting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 effective STR system is critical to the anti-money laundering system and the bank: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required by the FATF Recommenda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discourages criminals from misusing banks, as they would be concerned about discovery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part of banks due diligence systems, and helps to protect against fraud and other crimes affecting the solvency of the bank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essential to protect the banks reputatio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685800" y="1268280"/>
          <a:ext cx="7772400" cy="4319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268280"/>
                    <a:ext cx="77724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3053880" y="35784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Results in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685800" y="2895480"/>
          <a:ext cx="7772400" cy="256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895480"/>
                    <a:ext cx="777240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436480" y="1523160"/>
            <a:ext cx="42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STR in three count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mproved STR Effectivenes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creasing the level of feedback to reporting institutions, and also creating a closer working relationship between the FIU, the regulator and financial institu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creased education and training for front-line and other staff of financial institu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compliance officers are filtering reports in an appropriate way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financial institutions and their staff have appropriate legal protection from criminal and civil proceedings, which will thus encourage them to make report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Focussing increased attention on the NBFI sector, and also on non-cash transac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all institutions within each sector make reports where appropriate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0deed"/>
                </a:solidFill>
                <a:uFillTx/>
                <a:latin typeface="Arial"/>
              </a:rPr>
              <a:t>Topics covered in this Presentation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rrent status of the Non-Cooperative Countries and Territories (NCCT) exercise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view of the FATF 40 Recommendation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mportance and role of Suspicious Transaction Reports (STR)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5 Non-Cooperative Countries and Territories June 2000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Bahama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ayman Islands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ook Islands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Dominica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srael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iechtenstei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arshall Islands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anam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7 NCCTs - June 2001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ook Island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Dominic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Egypt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Guatemal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Hungary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ndone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srael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arshall Islands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yanmar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ger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9 NCCT - May 2002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Cook Island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Dominic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Egypt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Grenad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Indones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Marshall Island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16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Myanmar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iger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Ukraine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Extra counter-measure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cter requirements to identify clients from NCCT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d or systematic reporting of financial transac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NCCT based bank requests establishing a subsidiary, branch or representative office take into account that jurisdiction is NCCT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 non-financial sector businesses of the risk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1460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Major issues in Review of 40 Recommenda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Review begun last year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FATF has prepared a public consultation paper that sets out the issues and the risks, and provides one or more options for dealing with them.  Should be issued 30/31 May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The financial sector and all other interested parties are invited to provide comments to the FATF on the issues raised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66"/>
                </a:solidFill>
                <a:uFillTx/>
                <a:latin typeface="Times New Roman"/>
              </a:rPr>
              <a:t>1. Customer due diligence, suspicious transaction reporting and regulation and supervisio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Refine the obligations to identify and verify the identity of the customer and the beneficial owner, and to perform necessary due diligence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Categories of customer or transactions where there is potentially a higher risk: politically exposed persons, correspondent banking and electronic and other non face-to-face financial services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Simplified or alternative measures for lower risk scenarios, “introduced business” and reliance on third parties to perform some of the identification and verification functions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Role of financial intelligence units (MASAK), the need for feedback to reporting institutions, and the regulation and supervision of institutions.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2. Information on beneficial ownership and control of companies, trusts etc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cess to information by law enforcement, regulators and financial institu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Paper examines the risks, the current obligations, the purposes for which beneficial ownership and control information is required, the essential requirements and possible measures that could be take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easures to take regarding bearer shares and trust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3:49:44Z</dcterms:created>
  <dc:creator>OECD</dc:creator>
  <dc:description/>
  <dc:language>en-US</dc:language>
  <cp:lastModifiedBy>EILEEN</cp:lastModifiedBy>
  <cp:lastPrinted>2002-05-23T12:58:07Z</cp:lastPrinted>
  <dcterms:modified xsi:type="dcterms:W3CDTF">2002-05-23T13:38:46Z</dcterms:modified>
  <cp:revision>30</cp:revision>
  <dc:subject/>
  <dc:title>Title</dc:title>
</cp:coreProperties>
</file>